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4.png" ContentType="image/png"/>
  <Override PartName="/ppt/media/image1.gif" ContentType="image/gif"/>
  <Override PartName="/ppt/media/image3.png" ContentType="image/png"/>
  <Override PartName="/ppt/media/image11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10.png" ContentType="image/png"/>
  <Override PartName="/ppt/media/image2.gif" ContentType="image/gif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5F2C-A183-4FC3-9A25-B3EA32A775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6111-0341-4C21-9D8A-499AD5A20D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291C-1E98-4FD3-8726-AEEE945151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78B1-662F-49AB-841F-AC01C766DB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B04-EF63-40BB-8F3B-8F190DC8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452-5AC9-45A7-86B6-6FCB8579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576-9C52-4518-B169-D102F057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E77-1789-4AFD-BBD2-4E687EDB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BB7F-023C-466F-BE7B-C1D99342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60BB-D41F-45AA-AEE8-1AB9C8E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99F2-06AF-4599-AC50-C5AF3F42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38B5-000B-403C-B590-6DEF40A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D2C1-F13D-4DB4-BD51-8D2AA53B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7F1F-D1F7-4047-B585-717A4A02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02CB-9A4A-4E53-9683-412E0D7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903-3F43-4736-893A-C45B25BC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C3C-9596-4654-9380-89266167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F8DF-BEFB-4118-AAAE-D64EB08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7E4-3293-4BAA-AF26-1766127E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C3C2-F6BE-4273-B034-E2A9B8D3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FE56-DDC1-4D7D-9773-A7BDA2F8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CBB6-5860-4F06-A3D9-2204201C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554F-BC92-4644-85E4-1B4474AF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799A-BBA4-4CD5-8564-8C6F720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ABA8-BC34-4CCA-9F13-E5456545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25D1-A8BE-458A-B56B-0BB12008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095-70CD-449A-AE34-5E7F11DE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14D0-0C5D-4B9C-AA90-9A8ED86C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E7F1-2C45-4016-8F7B-B946773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B86E-3E3C-433E-BA86-D01D003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3B44-6630-45E6-87B2-E0FCFA4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6133-C5B8-4590-A6F8-EDE6110D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13FD-7C09-45D2-BC83-3EA49C62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EB77-4097-4371-AA5B-65A2AF7F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435-FAB9-478E-ADC4-4259CBD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5A9-7080-4A14-A563-8297F225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7A0-7C02-4B8F-BD0A-BC414C68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0CF-D85B-4012-98F9-DBFD8B77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8AE-B878-4057-B3D6-6D18D872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038-F85F-42BC-BA8F-DA16FFB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806C-860E-4A8C-8099-C9D222B132F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e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33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85B0-FD79-4826-BFE9-8AB40C3313A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e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3784-0F0B-467D-8C4F-39722EEFAF05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33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Comic Sans MS"/>
              </a:rPr>
              <a:t>Психолого-педагогические основы развития графических умений </a:t>
            </a:r>
            <a:br>
              <a:rPr sz="4000"/>
            </a:br>
            <a:r>
              <a:rPr b="1" lang="ru-RU" sz="4000" spc="-1" strike="noStrike">
                <a:solidFill>
                  <a:srgbClr val="ffe701"/>
                </a:solidFill>
                <a:latin typeface="Comic Sans MS"/>
              </a:rPr>
              <a:t>у детей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352680" y="5819760"/>
            <a:ext cx="50292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Презентацию подготови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М.А. Габов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кандидат пед. наук, доцен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04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Графика в ДО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95D4-BF89-4C0B-AA9F-BF7C62787E35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Графические изображения –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что это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700360" y="1874880"/>
            <a:ext cx="207972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8360" y="1784520"/>
            <a:ext cx="2087640" cy="16444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168360" cy="2330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867280" y="4365720"/>
            <a:ext cx="2971800" cy="1992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3800520" y="4221000"/>
            <a:ext cx="1542960" cy="1764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5148360" y="1557360"/>
            <a:ext cx="345420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03F-FD90-4C0B-AAF1-FD568F6FA23A}" type="slidenum">
              <a:t>10</a:t>
            </a:fld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500"/>
                            </p:stCondLst>
                            <p:childTnLst>
                              <p:par>
                                <p:cTn id="5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8880" y="333000"/>
            <a:ext cx="8385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Графические изображения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860640"/>
            <a:ext cx="3168720" cy="2594160"/>
          </a:xfrm>
          <a:prstGeom prst="flowChartPunched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Основ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26496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Штрих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26496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Точ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26496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Ли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95640" y="1484280"/>
            <a:ext cx="4608360" cy="4465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82440" indent="282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от ру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при помощ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графических          инструменто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средствами компьютерной граф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типограф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спосо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2440" indent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06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Способ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получ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765000"/>
            <a:ext cx="4284720" cy="324036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образ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символич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компакт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относительная легк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прочт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105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Характер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качеств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861E-281C-440D-9B6A-C6D72413C505}" type="slidenum">
              <a:t>11</a:t>
            </a:fld>
          </a:p>
        </p:txBody>
      </p:sp>
    </p:spTree>
  </p:cSld>
  <p:transition>
    <p:comb dir="horz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58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4360" cy="6451920"/>
            <a:chOff x="0" y="0"/>
            <a:chExt cx="9144360" cy="6451920"/>
          </a:xfrm>
        </p:grpSpPr>
        <p:cxnSp>
          <p:nvCxnSpPr>
            <p:cNvPr id="276" name="_s38916"/>
            <p:cNvCxnSpPr>
              <a:stCxn id="277" idx="0"/>
              <a:endCxn id="278" idx="2"/>
            </p:cNvCxnSpPr>
            <p:nvPr/>
          </p:nvCxnSpPr>
          <p:spPr>
            <a:xfrm flipV="1">
              <a:off x="7167240" y="1839600"/>
              <a:ext cx="5760" cy="42577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9" name="_s38917"/>
            <p:cNvCxnSpPr>
              <a:stCxn id="280" idx="0"/>
              <a:endCxn id="278" idx="2"/>
            </p:cNvCxnSpPr>
            <p:nvPr/>
          </p:nvCxnSpPr>
          <p:spPr>
            <a:xfrm flipV="1">
              <a:off x="7167240" y="1838880"/>
              <a:ext cx="5760" cy="37472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1" name="_s38918"/>
            <p:cNvCxnSpPr>
              <a:stCxn id="282" idx="0"/>
              <a:endCxn id="278" idx="2"/>
            </p:cNvCxnSpPr>
            <p:nvPr/>
          </p:nvCxnSpPr>
          <p:spPr>
            <a:xfrm flipV="1">
              <a:off x="7167240" y="1839240"/>
              <a:ext cx="5760" cy="3179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3" name="_s38919"/>
            <p:cNvCxnSpPr>
              <a:stCxn id="284" idx="0"/>
              <a:endCxn id="285" idx="2"/>
            </p:cNvCxnSpPr>
            <p:nvPr/>
          </p:nvCxnSpPr>
          <p:spPr>
            <a:xfrm flipV="1">
              <a:off x="1976760" y="1849680"/>
              <a:ext cx="4680" cy="13640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6" name="_s38920"/>
            <p:cNvCxnSpPr>
              <a:stCxn id="287" idx="0"/>
              <a:endCxn id="278" idx="2"/>
            </p:cNvCxnSpPr>
            <p:nvPr/>
          </p:nvCxnSpPr>
          <p:spPr>
            <a:xfrm flipV="1">
              <a:off x="7167240" y="1838880"/>
              <a:ext cx="5760" cy="2668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8" name="_s38921"/>
            <p:cNvCxnSpPr>
              <a:stCxn id="289" idx="0"/>
              <a:endCxn id="278" idx="2"/>
            </p:cNvCxnSpPr>
            <p:nvPr/>
          </p:nvCxnSpPr>
          <p:spPr>
            <a:xfrm flipV="1">
              <a:off x="7167240" y="1839240"/>
              <a:ext cx="5760" cy="2195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0" name="_s38922"/>
            <p:cNvCxnSpPr>
              <a:stCxn id="291" idx="0"/>
              <a:endCxn id="278" idx="2"/>
            </p:cNvCxnSpPr>
            <p:nvPr/>
          </p:nvCxnSpPr>
          <p:spPr>
            <a:xfrm flipV="1">
              <a:off x="7167240" y="1838880"/>
              <a:ext cx="5760" cy="1659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2" name="_s38923"/>
            <p:cNvCxnSpPr>
              <a:stCxn id="293" idx="0"/>
              <a:endCxn id="278" idx="2"/>
            </p:cNvCxnSpPr>
            <p:nvPr/>
          </p:nvCxnSpPr>
          <p:spPr>
            <a:xfrm flipV="1">
              <a:off x="7167240" y="1838880"/>
              <a:ext cx="5760" cy="1162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4" name="_s38924"/>
            <p:cNvCxnSpPr>
              <a:stCxn id="295" idx="0"/>
              <a:endCxn id="278" idx="2"/>
            </p:cNvCxnSpPr>
            <p:nvPr/>
          </p:nvCxnSpPr>
          <p:spPr>
            <a:xfrm flipV="1">
              <a:off x="7167240" y="1839240"/>
              <a:ext cx="5760" cy="6508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6" name="_s38925"/>
            <p:cNvCxnSpPr>
              <a:stCxn id="297" idx="0"/>
              <a:endCxn id="278" idx="2"/>
            </p:cNvCxnSpPr>
            <p:nvPr/>
          </p:nvCxnSpPr>
          <p:spPr>
            <a:xfrm flipV="1">
              <a:off x="7167240" y="1839240"/>
              <a:ext cx="5760" cy="153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98" name="_s38926"/>
            <p:cNvCxnSpPr>
              <a:stCxn id="299" idx="0"/>
              <a:endCxn id="285" idx="2"/>
            </p:cNvCxnSpPr>
            <p:nvPr/>
          </p:nvCxnSpPr>
          <p:spPr>
            <a:xfrm flipV="1">
              <a:off x="1976760" y="1849680"/>
              <a:ext cx="4680" cy="23029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0" name="_s38927"/>
            <p:cNvCxnSpPr>
              <a:stCxn id="301" idx="0"/>
              <a:endCxn id="285" idx="2"/>
            </p:cNvCxnSpPr>
            <p:nvPr/>
          </p:nvCxnSpPr>
          <p:spPr>
            <a:xfrm flipV="1">
              <a:off x="1976760" y="1850040"/>
              <a:ext cx="4680" cy="31687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2" name="_s38928"/>
            <p:cNvCxnSpPr>
              <a:stCxn id="303" idx="0"/>
              <a:endCxn id="285" idx="2"/>
            </p:cNvCxnSpPr>
            <p:nvPr/>
          </p:nvCxnSpPr>
          <p:spPr>
            <a:xfrm flipH="1" flipV="1" rot="5400000">
              <a:off x="1725480" y="2096280"/>
              <a:ext cx="498240" cy="5760"/>
            </a:xfrm>
            <a:prstGeom prst="bentConnector3">
              <a:avLst>
                <a:gd name="adj1" fmla="val 2292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4" name="_s38929"/>
            <p:cNvCxnSpPr>
              <a:stCxn id="278" idx="0"/>
              <a:endCxn id="305" idx="2"/>
            </p:cNvCxnSpPr>
            <p:nvPr/>
          </p:nvCxnSpPr>
          <p:spPr>
            <a:xfrm flipV="1" rot="16200000">
              <a:off x="5610960" y="-357120"/>
              <a:ext cx="511560" cy="2600640"/>
            </a:xfrm>
            <a:prstGeom prst="bentConnector3">
              <a:avLst>
                <a:gd name="adj1" fmla="val 22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6" name="_s38930"/>
            <p:cNvCxnSpPr>
              <a:stCxn id="285" idx="0"/>
              <a:endCxn id="305" idx="2"/>
            </p:cNvCxnSpPr>
            <p:nvPr/>
          </p:nvCxnSpPr>
          <p:spPr>
            <a:xfrm flipH="1" flipV="1" rot="5400000">
              <a:off x="3016080" y="-351720"/>
              <a:ext cx="511560" cy="2590200"/>
            </a:xfrm>
            <a:prstGeom prst="bentConnector3">
              <a:avLst>
                <a:gd name="adj1" fmla="val 22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05" name="_s38931"/>
            <p:cNvSpPr/>
            <p:nvPr/>
          </p:nvSpPr>
          <p:spPr>
            <a:xfrm>
              <a:off x="2338560" y="0"/>
              <a:ext cx="4462200" cy="68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mic Sans MS"/>
                </a:rPr>
                <a:t>Графические изображ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_s38932"/>
            <p:cNvSpPr/>
            <p:nvPr/>
          </p:nvSpPr>
          <p:spPr>
            <a:xfrm>
              <a:off x="0" y="1199520"/>
              <a:ext cx="3954600" cy="650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Изображения плоских (двумерных) объектов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_s38933"/>
            <p:cNvSpPr/>
            <p:nvPr/>
          </p:nvSpPr>
          <p:spPr>
            <a:xfrm>
              <a:off x="5189760" y="1199520"/>
              <a:ext cx="3954600" cy="64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Comic Sans MS"/>
                </a:rPr>
                <a:t>Изображения объемных (трехмерных) объектов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_s38934"/>
            <p:cNvSpPr/>
            <p:nvPr/>
          </p:nvSpPr>
          <p:spPr>
            <a:xfrm>
              <a:off x="0" y="2347920"/>
              <a:ext cx="3949200" cy="45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Схем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_s38935"/>
            <p:cNvSpPr/>
            <p:nvPr/>
          </p:nvSpPr>
          <p:spPr>
            <a:xfrm>
              <a:off x="0" y="5018400"/>
              <a:ext cx="3954600" cy="4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Диаграмм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_s38936"/>
            <p:cNvSpPr/>
            <p:nvPr/>
          </p:nvSpPr>
          <p:spPr>
            <a:xfrm>
              <a:off x="0" y="4152600"/>
              <a:ext cx="3954600" cy="42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Графи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_s38937"/>
            <p:cNvSpPr/>
            <p:nvPr/>
          </p:nvSpPr>
          <p:spPr>
            <a:xfrm>
              <a:off x="5189760" y="1992600"/>
              <a:ext cx="3954600" cy="42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Рисуно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_s38938"/>
            <p:cNvSpPr/>
            <p:nvPr/>
          </p:nvSpPr>
          <p:spPr>
            <a:xfrm>
              <a:off x="5189760" y="2490480"/>
              <a:ext cx="3954600" cy="368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Черте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_s38939"/>
            <p:cNvSpPr/>
            <p:nvPr/>
          </p:nvSpPr>
          <p:spPr>
            <a:xfrm>
              <a:off x="5189760" y="3001320"/>
              <a:ext cx="3954600" cy="368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Наглядное изображе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_s38940"/>
            <p:cNvSpPr/>
            <p:nvPr/>
          </p:nvSpPr>
          <p:spPr>
            <a:xfrm>
              <a:off x="5189760" y="3498840"/>
              <a:ext cx="3954600" cy="368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Технический рисуно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_s38941"/>
            <p:cNvSpPr/>
            <p:nvPr/>
          </p:nvSpPr>
          <p:spPr>
            <a:xfrm>
              <a:off x="5189760" y="4034160"/>
              <a:ext cx="3954600" cy="35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Эски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_s38942"/>
            <p:cNvSpPr/>
            <p:nvPr/>
          </p:nvSpPr>
          <p:spPr>
            <a:xfrm>
              <a:off x="5189760" y="4507560"/>
              <a:ext cx="3954600" cy="35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Сборочный черте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_s38943"/>
            <p:cNvSpPr/>
            <p:nvPr/>
          </p:nvSpPr>
          <p:spPr>
            <a:xfrm>
              <a:off x="0" y="3213720"/>
              <a:ext cx="3954600" cy="42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Черте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_s38944"/>
            <p:cNvSpPr/>
            <p:nvPr/>
          </p:nvSpPr>
          <p:spPr>
            <a:xfrm>
              <a:off x="5189760" y="5018400"/>
              <a:ext cx="3954600" cy="35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Разверт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_s38945"/>
            <p:cNvSpPr/>
            <p:nvPr/>
          </p:nvSpPr>
          <p:spPr>
            <a:xfrm>
              <a:off x="5189760" y="5586120"/>
              <a:ext cx="3954600" cy="35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Карт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_s38946"/>
            <p:cNvSpPr/>
            <p:nvPr/>
          </p:nvSpPr>
          <p:spPr>
            <a:xfrm>
              <a:off x="5189760" y="6096960"/>
              <a:ext cx="3954600" cy="35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66"/>
                  </a:solidFill>
                  <a:latin typeface="Comic Sans MS"/>
                </a:rPr>
                <a:t>Пла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5447-1318-4BF4-B5A9-FECC718CF413}" type="slidenum">
              <a:t>12</a:t>
            </a:fld>
          </a:p>
        </p:txBody>
      </p:sp>
    </p:spTree>
  </p:cSld>
  <p:transition>
    <p:cover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800"/>
                            </p:stCondLst>
                            <p:childTnLst>
                              <p:par>
                                <p:cTn id="6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"/>
                            </p:stCondLst>
                            <p:childTnLst>
                              <p:par>
                                <p:cTn id="6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500"/>
                            </p:stCondLst>
                            <p:childTnLst>
                              <p:par>
                                <p:cTn id="6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900"/>
                            </p:stCondLst>
                            <p:childTnLst>
                              <p:par>
                                <p:cTn id="6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4200"/>
                            </p:stCondLst>
                            <p:childTnLst>
                              <p:par>
                                <p:cTn id="6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450"/>
                            </p:stCondLst>
                            <p:childTnLst>
                              <p:par>
                                <p:cTn id="6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7400"/>
                            </p:stCondLst>
                            <p:childTnLst>
                              <p:par>
                                <p:cTn id="6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9250"/>
                            </p:stCondLst>
                            <p:childTnLst>
                              <p:par>
                                <p:cTn id="7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450"/>
                            </p:stCondLst>
                            <p:childTnLst>
                              <p:par>
                                <p:cTn id="7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2150"/>
                            </p:stCondLst>
                            <p:childTnLst>
                              <p:par>
                                <p:cTn id="7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3550"/>
                            </p:stCondLst>
                            <p:childTnLst>
                              <p:par>
                                <p:cTn id="7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4750"/>
                            </p:stCondLst>
                            <p:childTnLst>
                              <p:par>
                                <p:cTn id="7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209680" y="380520"/>
            <a:ext cx="3600720" cy="251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Схема –</a:t>
            </a:r>
            <a:r>
              <a:rPr b="1" i="1" lang="ru-RU" sz="2200" spc="-1" strike="noStrike">
                <a:solidFill>
                  <a:srgbClr val="66cc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упрощенное (условное) изображение взаимного расположения частей чего-либо целого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63720" cy="194472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3276720" cy="231804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1927440" cy="230508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940360" y="3068640"/>
            <a:ext cx="2868840" cy="357336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sp>
        <p:nvSpPr>
          <p:cNvPr id="312" name=""/>
          <p:cNvSpPr/>
          <p:nvPr/>
        </p:nvSpPr>
        <p:spPr>
          <a:xfrm>
            <a:off x="2209680" y="2666880"/>
            <a:ext cx="3600720" cy="445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Чертеж –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графический документ, выполненный по определенным правилам с помощью чертежных инструментов и содержащий все основные сведения об изделии (наименование, форма, размеры и т.п.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345A-3881-4588-93AE-AE162D4C68F7}" type="slidenum">
              <a:t>13</a:t>
            </a:fld>
          </a:p>
        </p:txBody>
      </p:sp>
    </p:spTree>
  </p:cSld>
  <p:transition>
    <p:cover dir="lu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940000" y="685440"/>
            <a:ext cx="3203640" cy="371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График -</a:t>
            </a: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 графическое изображение функциональной зависимости одной величины от друго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0" t="0" r="0" b="5092"/>
          <a:stretch/>
        </p:blipFill>
        <p:spPr>
          <a:xfrm>
            <a:off x="250920" y="260280"/>
            <a:ext cx="2808360" cy="2322720"/>
          </a:xfrm>
          <a:prstGeom prst="rect">
            <a:avLst/>
          </a:prstGeom>
          <a:ln w="28440">
            <a:solidFill>
              <a:srgbClr val="993366"/>
            </a:solidFill>
            <a:prstDash val="sysDot"/>
            <a:miter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348000" y="260280"/>
            <a:ext cx="2160720" cy="241956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sp>
        <p:nvSpPr>
          <p:cNvPr id="316" name=""/>
          <p:cNvSpPr/>
          <p:nvPr/>
        </p:nvSpPr>
        <p:spPr>
          <a:xfrm>
            <a:off x="-169236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492360" y="3716280"/>
          <a:ext cx="2401920" cy="252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716280"/>
                    <a:ext cx="2401920" cy="2521080"/>
                  </a:xfrm>
                  <a:prstGeom prst="rect">
                    <a:avLst/>
                  </a:prstGeom>
                  <a:ln w="28440">
                    <a:solidFill>
                      <a:srgbClr val="660066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0" y="24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3716280"/>
          <a:ext cx="3276720" cy="252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16280"/>
                    <a:ext cx="3276720" cy="2521080"/>
                  </a:xfrm>
                  <a:prstGeom prst="rect">
                    <a:avLst/>
                  </a:prstGeom>
                  <a:ln w="28440">
                    <a:solidFill>
                      <a:srgbClr val="660066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0" y="24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3005280"/>
            <a:ext cx="3203640" cy="3548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Диаграмма -</a:t>
            </a:r>
            <a:r>
              <a:rPr b="1" i="1" lang="ru-RU" sz="2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графическое изображение соотношения между сравниваемыми величинами (не связанными функционально, а только по смыслу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8DAC-605E-4527-B0D8-1F97869A3302}" type="slidenum">
              <a:t>14</a:t>
            </a:fld>
          </a:p>
        </p:txBody>
      </p:sp>
    </p:spTree>
  </p:cSld>
  <p:transition>
    <p:cover dir="ru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3745080" cy="521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Наглядное изображение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 -</a:t>
            </a: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 объемное изображение изделия (детали), выполненное по правилам черчения, (или аксонометрическая проекция: предмет показывается видимым одновременно с нескольких сторон, параллельные линии остаются параллельными)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2232000" cy="165564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211640" y="3683160"/>
            <a:ext cx="2376360" cy="156528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732720" y="165240"/>
            <a:ext cx="2160360" cy="167940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066080" y="3673440"/>
            <a:ext cx="1768320" cy="157176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5305320" y="1916280"/>
            <a:ext cx="2146320" cy="165564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5278320" y="5445000"/>
            <a:ext cx="2173320" cy="1224000"/>
          </a:xfrm>
          <a:prstGeom prst="rect">
            <a:avLst/>
          </a:prstGeom>
          <a:ln w="28440">
            <a:solidFill>
              <a:srgbClr val="660066"/>
            </a:solidFill>
            <a:prstDash val="sysDot"/>
            <a:miter/>
          </a:ln>
        </p:spPr>
      </p:pic>
      <p:sp>
        <p:nvSpPr>
          <p:cNvPr id="331" name=""/>
          <p:cNvSpPr/>
          <p:nvPr/>
        </p:nvSpPr>
        <p:spPr>
          <a:xfrm>
            <a:off x="228600" y="4876920"/>
            <a:ext cx="3755880" cy="157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Comic Sans MS"/>
              </a:rPr>
              <a:t>Развертка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 –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чертеж (выкройка) детали, изготавливаемой из листового материал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AD41-CEBF-4EF3-9300-97642A5E22AC}" type="slidenum">
              <a:t>15</a:t>
            </a:fld>
          </a:p>
        </p:txBody>
      </p:sp>
    </p:spTree>
  </p:cSld>
  <p:transition>
    <p:dissolve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366040" cy="57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Карта</a:t>
            </a: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Comic Sans MS"/>
              </a:rPr>
              <a:t>(географическая, топографическая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056040" cy="2160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2759400" cy="2573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11280" y="3284640"/>
            <a:ext cx="8208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План </a:t>
            </a:r>
            <a:r>
              <a:rPr b="1" i="1" lang="ru-RU" sz="2400" spc="-1" strike="noStrike">
                <a:solidFill>
                  <a:srgbClr val="660066"/>
                </a:solidFill>
                <a:latin typeface="Comic Sans MS"/>
              </a:rPr>
              <a:t>(топографический, строитель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93220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008A-967D-439E-B1F3-2AABDCE5BECF}" type="slidenum">
              <a:t>16</a:t>
            </a:fld>
          </a:p>
        </p:txBody>
      </p:sp>
    </p:spTree>
  </p:cSld>
  <p:transition>
    <p:diamond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391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Основные графические операции </a:t>
            </a: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и графические инструмент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95280" y="1371600"/>
          <a:ext cx="8450280" cy="4689360"/>
        </p:xfrm>
        <a:graphic>
          <a:graphicData uri="http://schemas.openxmlformats.org/drawingml/2006/table">
            <a:tbl>
              <a:tblPr/>
              <a:tblGrid>
                <a:gridCol w="4226040"/>
                <a:gridCol w="42242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Построение прямых и ломаных ли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Построение окружностей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Построение кривых линий</a:t>
                      </a:r>
                      <a:r>
                        <a:rPr b="1" lang="ru-RU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8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Измерение длин, уг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5029200" y="14479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Линей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Рейсш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Уголь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24382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Циркуль 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чертеж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Шаблоны, трафареты, лек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33526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Шаблоны, трафареты, лек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Циркуль 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чертеж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4343400"/>
            <a:ext cx="386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Циркуль 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разметоч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Линей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Рейсш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Уголь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omic Sans MS"/>
              </a:rPr>
              <a:t>Транспортир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520-1B60-48EB-AC00-86D36BB79117}" type="slidenum">
              <a:t>17</a:t>
            </a:fld>
          </a:p>
        </p:txBody>
      </p:sp>
    </p:spTree>
  </p:cSld>
  <p:transition spd="med">
    <p:strips dir="lu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3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Пространственные представления</a:t>
            </a: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 и пространственное мышление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240" y="5334120"/>
            <a:ext cx="89154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Пространственное мышление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 -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азновидность образного мышления, заключается в создании пространственных образов, их перекодировании, мысленном оперировании ими в различных условиях пространственной ориентации, переходе от образов реальных объектов к их условно-графическим изображениям, от трехмерных изображений к двухмерным и обратно (И.С. Якиманская)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066680"/>
            <a:ext cx="8915400" cy="1618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Восприятие пространства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 -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отражение объективно существующего пространства, включает восприятие формы, величины, взаимного расположения объектов, рельефа, удаленности, направления. Результат - 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образы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предметов и явлений окружающего мира, их внешних свойств (А.В. Петровский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9800" y="2666880"/>
            <a:ext cx="86742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а основе образов восприятия складываются вторичные образы - 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образы представления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, они схематизируются и обобщаются в процессе мышл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3429000"/>
            <a:ext cx="8915400" cy="7333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Представление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образ, возникающий в индивидуальном сознании, сохраняемый и воспроизводимый без непосредственного воздействия предметов на органы чувств.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191120"/>
            <a:ext cx="8686800" cy="1159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Пространственные представления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представления о пространственных и пространственно-временных  свойствах и отношениях, величине, форме, относительном расположении объектов, их поступательном и вращательном движении (Ю.М. Горвиц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BAA7-6D8E-474C-BBE4-CC06708AD88A}" type="slidenum">
              <a:t>18</a:t>
            </a:fld>
          </a:p>
        </p:txBody>
      </p:sp>
    </p:spTree>
  </p:cSld>
  <p:transition>
    <p:checker dir="horz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Генезис пространственных представлений у детей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458200" cy="1600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Обозначение пространственных отношений словом ведет к их вычленению, абстрагированию и обобщению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omic Sans MS"/>
              </a:rPr>
              <a:t>К 4 годам</a:t>
            </a:r>
            <a:r>
              <a:rPr b="0" lang="ru-RU" sz="2200" spc="-1" strike="noStrike">
                <a:solidFill>
                  <a:srgbClr val="003366"/>
                </a:solidFill>
                <a:latin typeface="Comic Sans MS"/>
              </a:rPr>
              <a:t> - зрительный анализ формы. Дети научаются сопоставлять объекты, конструировать по расчлененному, и нерасчлененному образцу.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14400"/>
            <a:ext cx="4419720" cy="375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Эксперименты Л.А. Венгера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ети способны различать форму геометрических фигур уже </a:t>
            </a: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с двух месяце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К </a:t>
            </a: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9 месяцам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приспособление положения пальцев руки ребенка к форме предм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азрыв между возможностями различения формы и возможностью ориентировки на нее в практической деятельнос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1752480"/>
            <a:ext cx="4038480" cy="375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На втором году жизни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познают удаленность и местоположение предметов на основе мышечного чувства, к которому присоединяются зрительные ощущ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правильно действует с предметами, находящимися в различных пространственных отношения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6AA3-8556-4C2F-A7B9-BD0D994E02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489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omic Sans MS"/>
              </a:rPr>
              <a:t>Содержание дошкольного образован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должно лежать в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фере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убъектного опыта ребенка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охватывать как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привычные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 для него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области действительности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так и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новые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, далекие от привычных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своей необычностью вызывающие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живой интерес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 дете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4BC-3A52-46B0-A517-9934CFF21749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4267080"/>
            <a:ext cx="8686800" cy="2286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старшем дошкольном возрасте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усвоение слов-обозначений пространственных отношений приводит к пониманию относительности пространственных отношений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Исследования Л.А. Венгера, Р. Говоровой, В.С. Мухиной: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в процессе обучения, при котором дети 4-5 лет сами меняют пространственные отношения между предметами, рассматривают их с разных позиций, обозначают словесно и графически, ориентировка с изменением точки отсчета формируется сравнительно легко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Генезис пространственных представлений у детей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609480"/>
            <a:ext cx="8763120" cy="3448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Т. Мусейибова: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общий путь развития у детей процесса отражения пространства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- диффузное нерасчлененное восприятие пространства, на фоне которого выделяются лишь отдельные объекты вне пространственных отношений между ни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- на основе представлений об основных пространственных направлениях пространство начинает дробиться по основным линиям (вертикальной, фронтальной и сагиттальной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с увеличением площади выделенных участков в длину и ширину они постепенно смыкаются, формируя общее представление о местности как о едином непрерывном пространств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4EEA-26BB-4D2D-A01F-76A701763F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ff"/>
                </a:solidFill>
                <a:latin typeface="Comic Sans MS"/>
              </a:rPr>
              <a:t>Графические умения и графические навыки</a:t>
            </a:r>
            <a:endParaRPr b="0" lang="en-US" sz="27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3240" y="7389720"/>
            <a:ext cx="8955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990720"/>
            <a:ext cx="856944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Графические навыки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 – это определенные привычные положения и движения пишущей (рисующей) руки, позволяющие изображать знаки и их соеди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2895480"/>
            <a:ext cx="8642520" cy="1584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Умения</a:t>
            </a: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 –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это сплав навыков и знаний, который определяет качество выполнения графической деятельности; это более сложное образование, чем навык или знания, взятые в отд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4869000"/>
            <a:ext cx="8642160" cy="1655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Comic Sans MS"/>
              </a:rPr>
              <a:t>Графические умения</a:t>
            </a: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 -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сложный комплекс, включающий формирование зрительно-моторной координации, восприятие фигуро-фоновых отношений, положения в пространстве и д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FD83-D137-4A59-8D6C-E2A87F8A56B9}" type="slidenum">
              <a:t>21</a:t>
            </a:fld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Как взаимосвязаны пространственные представления и графические умения?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066680"/>
            <a:ext cx="2133720" cy="914400"/>
          </a:xfrm>
          <a:prstGeom prst="downArrowCallout">
            <a:avLst>
              <a:gd name="adj1" fmla="val 25001"/>
              <a:gd name="adj2" fmla="val 58337"/>
              <a:gd name="adj3" fmla="val 23333"/>
              <a:gd name="adj4" fmla="val 6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Пространственные представ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990720"/>
            <a:ext cx="3353040" cy="1904760"/>
          </a:xfrm>
          <a:prstGeom prst="leftRightArrow">
            <a:avLst>
              <a:gd name="adj1" fmla="val 63889"/>
              <a:gd name="adj2" fmla="val 3687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тносительное расположе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расстоя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429000"/>
            <a:ext cx="2971800" cy="838080"/>
          </a:xfrm>
          <a:prstGeom prst="rightArrowCallout">
            <a:avLst>
              <a:gd name="adj1" fmla="val 25002"/>
              <a:gd name="adj2" fmla="val 25000"/>
              <a:gd name="adj3" fmla="val 59099"/>
              <a:gd name="adj4" fmla="val 6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Образ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представ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3429000"/>
            <a:ext cx="2971800" cy="838080"/>
          </a:xfrm>
          <a:prstGeom prst="leftArrowCallout">
            <a:avLst>
              <a:gd name="adj1" fmla="val 25002"/>
              <a:gd name="adj2" fmla="val 25000"/>
              <a:gd name="adj3" fmla="val 59099"/>
              <a:gd name="adj4" fmla="val 66673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Графические изобра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495680"/>
            <a:ext cx="3048120" cy="2133720"/>
          </a:xfrm>
          <a:prstGeom prst="upArrowCallout">
            <a:avLst>
              <a:gd name="adj1" fmla="val 17012"/>
              <a:gd name="adj2" fmla="val 35714"/>
              <a:gd name="adj3" fmla="val 14287"/>
              <a:gd name="adj4" fmla="val 4285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Восприятие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пределение свой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Называние свой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Воспроизведение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Преобразование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объек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53080" y="1066680"/>
            <a:ext cx="2133720" cy="914400"/>
          </a:xfrm>
          <a:prstGeom prst="downArrowCallout">
            <a:avLst>
              <a:gd name="adj1" fmla="val 25001"/>
              <a:gd name="adj2" fmla="val 58337"/>
              <a:gd name="adj3" fmla="val 23333"/>
              <a:gd name="adj4" fmla="val 6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Графические ум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2057400"/>
            <a:ext cx="2133720" cy="1219320"/>
          </a:xfrm>
          <a:prstGeom prst="downArrowCallout">
            <a:avLst>
              <a:gd name="adj1" fmla="val 18749"/>
              <a:gd name="adj2" fmla="val 43748"/>
              <a:gd name="adj3" fmla="val 23333"/>
              <a:gd name="adj4" fmla="val 666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Реальные объекты, их свойства и отнош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2057400"/>
            <a:ext cx="2133720" cy="1219320"/>
          </a:xfrm>
          <a:prstGeom prst="downArrowCallout">
            <a:avLst>
              <a:gd name="adj1" fmla="val 18749"/>
              <a:gd name="adj2" fmla="val 43748"/>
              <a:gd name="adj3" fmla="val 23333"/>
              <a:gd name="adj4" fmla="val 666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Графическая информация об объект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4495680"/>
            <a:ext cx="2743200" cy="2133720"/>
          </a:xfrm>
          <a:prstGeom prst="upArrowCallout">
            <a:avLst>
              <a:gd name="adj1" fmla="val 15310"/>
              <a:gd name="adj2" fmla="val 32141"/>
              <a:gd name="adj3" fmla="val 14287"/>
              <a:gd name="adj4" fmla="val 4285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Создание образ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Мысленное опериро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Перекодирование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4495680"/>
            <a:ext cx="3048120" cy="2133720"/>
          </a:xfrm>
          <a:prstGeom prst="upArrowCallout">
            <a:avLst>
              <a:gd name="adj1" fmla="val 17012"/>
              <a:gd name="adj2" fmla="val 35714"/>
              <a:gd name="adj3" fmla="val 14287"/>
              <a:gd name="adj4" fmla="val 4285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Чтение информ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Анализ графического соста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Определение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Называние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Создание изобра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omic Sans MS"/>
              </a:rPr>
              <a:t>Преобразова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429000"/>
            <a:ext cx="2057400" cy="7621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omic Sans MS"/>
              </a:rPr>
              <a:t>Пространственное мышл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FB7E6-AF7A-46EF-B7F6-4FEE501C8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Графические ум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795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1 группа. Анализ пространственных признаков и отношений реальных предметов и их частей.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2 группа. Декодирование графической информации (чтение графических изображений).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3 группа.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Кодирование графической информации (создание изображений).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Comic Sans MS"/>
              </a:rPr>
              <a:t>4 группа. Преобразование графической информаци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0AC-137D-4288-B32C-52F483E991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1 группа. Анализ пространственных признаков и отношений реальных предметов и их част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920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нализ (выделение, называние), воспроизведение, преобразование формы предметов и их частей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нализ (выделение, называние), воспроизведение, преобразование величины предметов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нализ (выделение, называние), воспроизведение, преобразование пространственных отношений предметов и их частей (структуры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D2C-763A-4578-9EED-BB9042D184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2 группа. Декодирование графической информации (чтение графических изображений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7488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пределение и называние вида графического изображения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пределение, называние свойств изображенных объектов и их частей (форма, величина, количество, пространственное расположение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нализ графического состава изображений (виды линий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Конструирование по графическому изображению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C7E-7AB5-4559-9F8C-E80F746282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3 группа.</a:t>
            </a:r>
            <a:r>
              <a:rPr b="0" lang="ru-RU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Кодирование графической информации (создание изображений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010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существление основных графических операций (линии, формы и т.д.), использование чертежных инструментов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Создание изображения конструкции, моде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Координация движений руки и глаз (зрительно-моторная координация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4D0-C567-4507-B0B4-2B7629DCE2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6769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Comic Sans MS"/>
              </a:rPr>
              <a:t>4 группа. Преобразование графической информаци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28360" y="1834920"/>
            <a:ext cx="734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Преобразование изображений (форма, величина, количество, пространственное расположение объектов и их частей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85000" indent="-58500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Преобразование конструкций на основе преобразования изображени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329-1151-4537-9424-A8B738BAFE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0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6868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Comic Sans MS"/>
              </a:rPr>
              <a:t>Как развиваются графические умения у детей?</a:t>
            </a:r>
            <a:endParaRPr b="0" lang="en-US" sz="2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838080"/>
            <a:ext cx="8642520" cy="13050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В изобразительной деятельности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- обобщенные способы изображения, выявление и фиксация свойств предметов, овладение движениями рук и орудийными действия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2133720"/>
            <a:ext cx="8642520" cy="151272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В конструктивной деятельности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- представления о конструкции предметов и свойствах их деталей, соотнесение размера и формы, планирование деятельности, создание конструкции с опорой на образец, на заданные условия, на собственный замысе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3657600"/>
            <a:ext cx="8642520" cy="1297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Многие виды знаний, которые ребенок не может усвоить на основе словесного обозначения или в процессе организованных действий с предметами, он легко усваивает в виде действий с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графическими моделями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029200"/>
            <a:ext cx="864252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бобщенный и схематизированный характер представлений детей дошкольного возраста позволяет широко использовать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модели и схемы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для их обучения и формирования понят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054C-C00C-4E83-87BB-F236DBDF47C5}" type="slidenum">
              <a:t>28</a:t>
            </a:fld>
          </a:p>
        </p:txBody>
      </p:sp>
    </p:spTree>
  </p:cSld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Графические образы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2280" y="5409720"/>
            <a:ext cx="8839440" cy="121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Comic Sans MS"/>
              </a:rPr>
              <a:t>В школьном возрасте </a:t>
            </a:r>
            <a:r>
              <a:rPr b="1" lang="ru-RU" sz="2100" spc="-1" strike="noStrike">
                <a:solidFill>
                  <a:srgbClr val="ff00ff"/>
                </a:solidFill>
                <a:latin typeface="Comic Sans MS"/>
              </a:rPr>
              <a:t>графический образ</a:t>
            </a:r>
            <a:r>
              <a:rPr b="0" lang="ru-RU" sz="2100" spc="-1" strike="noStrike">
                <a:solidFill>
                  <a:srgbClr val="003366"/>
                </a:solidFill>
                <a:latin typeface="Comic Sans MS"/>
              </a:rPr>
              <a:t> выступает как представление о том, как предмет должен быть изображен, и включает зрительные образы предмета, представления о нем, двигательные представления о построении изображения. 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304920"/>
            <a:ext cx="449604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.С. Мухина, Т.С. Комар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omic Sans MS"/>
              </a:rPr>
              <a:t>Графический образ</a:t>
            </a:r>
            <a:r>
              <a:rPr b="0" i="1" lang="ru-RU" sz="2000" spc="-1" strike="noStrike">
                <a:solidFill>
                  <a:srgbClr val="003366"/>
                </a:solidFill>
                <a:latin typeface="Comic Sans MS"/>
              </a:rPr>
              <a:t> -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сочетание линий, которое в прошлом опыте ребенка обозначалось как какой-либо предмет; зрительно-двигательный образ предм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838080"/>
            <a:ext cx="4191120" cy="2228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omic Sans MS"/>
              </a:rPr>
              <a:t>Линии в происхождении графических образов:</a:t>
            </a: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сам находит графические образы в процессе чирк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копирует образцы взрослых, подражает.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76920" y="3581280"/>
            <a:ext cx="4105080" cy="1923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omic Sans MS"/>
              </a:rPr>
              <a:t>Виды графических образов:</a:t>
            </a:r>
            <a:r>
              <a:rPr b="0" lang="ru-RU" sz="20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176040">
              <a:lnSpc>
                <a:spcPct val="100000"/>
              </a:lnSpc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выражающие эталоны геометрических форм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176040">
              <a:lnSpc>
                <a:spcPct val="100000"/>
              </a:lnSpc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приближающиеся к реальным предмет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2438280"/>
            <a:ext cx="4496040" cy="2838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Графическая форма,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которой дети изображают геометрические фигуры, </a:t>
            </a: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определяетс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имеющимися у ребенка графическими образа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зрительным впечатлением от реального объекта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тактильно-моторным опытом действия с предмето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4E07-8FD7-4918-80E3-00EA73E31B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94E0-A2EF-4C5F-A03B-029B65996C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907920"/>
            <a:ext cx="3168720" cy="1800360"/>
          </a:xfrm>
          <a:prstGeom prst="flowChartPreparation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907920"/>
            <a:ext cx="3168720" cy="1800360"/>
          </a:xfrm>
          <a:prstGeom prst="flowChartPrepara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43280" y="1844640"/>
            <a:ext cx="1657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126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накоп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27280" y="2060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расши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40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ahoma"/>
              </a:rPr>
              <a:t>педаго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5335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ahoma"/>
              </a:rPr>
              <a:t>ребен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04720" y="3417120"/>
            <a:ext cx="2488320" cy="2075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5589720"/>
            <a:ext cx="216036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озн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56000" y="5589720"/>
            <a:ext cx="2232000" cy="981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общ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9640" y="5589720"/>
            <a:ext cx="223344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фиксиров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42900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46280" y="3386520"/>
            <a:ext cx="2466000" cy="2100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609300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609300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141300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азовательный проце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0360" y="112536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бъектный опы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моционально-чувстве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66920" y="2565360"/>
            <a:ext cx="6408720" cy="2521080"/>
          </a:xfrm>
          <a:prstGeom prst="flowChartDecision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едства и способ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знан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образован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щения с ми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27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8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8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3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3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35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35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7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70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3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Генезис графических умений у детей</a:t>
            </a:r>
            <a:r>
              <a:rPr b="0" lang="ru-RU" sz="4000" spc="-1" strike="noStrike">
                <a:solidFill>
                  <a:srgbClr val="cc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99840" y="4114440"/>
            <a:ext cx="7543800" cy="243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С 3 лет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линии более определенные, менее разбросанные, не повторяются бессмысленно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От неотрывного движения - к раздельным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Отдельные линии приобретают разнообразный характер: закругляются, ломаются под углом, перекрещиваются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Увеличивается координация при выполнении вертикальных движений, но плохо выполняются имитационные движения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609480"/>
            <a:ext cx="7924680" cy="21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1-1,5 года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крепко зажимает карандаш в ладони - это ограничивает дви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Штрихи на бумаге прерывающиеся. Постепенно рука крепнет, движения становятся более энергичными, повторяющимис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двигает рукой туда – обратно, не отрывая карандаш от бумаги. В результате - пучки дугообразных штрих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2514600"/>
            <a:ext cx="7848360" cy="1619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2-3 года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держит карандаш сверху, зажимает в ладони - это позволяет выполнять довольно сложные дви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изменяет направление штрихов, располагая их по-разному на бумаге, изменяется характер движений (прямолинейные, дугообразные, вращательные – в результате получаются мотки, спирали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7ADC-683A-4269-AA8C-B39030C875A4}" type="slidenum">
              <a:t>30</a:t>
            </a:fld>
          </a:p>
        </p:txBody>
      </p:sp>
    </p:spTree>
  </p:cSld>
  <p:transition>
    <p:checker dir="horz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Генезис графических умений у детей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К моменту перехода в школу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дети должны свободно владеть карандашом и кистью, регулировать свои движения при рисовании в отношении размаха, темпа, силы нажим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вижения должны быть легкими, плавными, равномерными, слитным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685800"/>
            <a:ext cx="9144000" cy="1439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4 года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умеет держать карандаш правильно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Совершенствуется координация движений и зрительно-пространственное восприятие - это позволяет хорошо копироват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ети умеют передавать пропорции фигур, ограничивать протяженность линий, рисовать относительно параллельные лин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133720"/>
            <a:ext cx="9144000" cy="19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5 лет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хорошо выполняются горизонтальные и вертикальные штрих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Ребенок способен ограничить длину штриха, линии ровные, четки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ети могут менять положение руки соответственно характеру движения при рисовании прямых, дугообразных, волнистых и зигзагообразных линий, различных форм округлого и прямолинейного контура, широких и узких пол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809880"/>
            <a:ext cx="9144000" cy="168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В 6 лет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- хорошо копируют геометрические фигуры, соблюдая их размер, пропорц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Детям доступны любые графические движения, штрихи и лин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Осваивают движения, быстро изменяющие направление на противоположное (завитки, петли-восьмерки, криволинейные формы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45AA-E22A-463B-93C5-118DC8991F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0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omic Sans MS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В процессе выполнения разнообразных практических действий дети дошкольного возраста овладевают некоторыми графическими умениями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учатся выделять, анализировать форму предметов, их пространственное расположение, величину;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сваивают обобщенные способы изображения предметов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учатся создавать различные конструкции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Однако при этом реализуются далеко не все возможности детей в овладении ими элементами графической грамот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B2A-E1D9-4084-B726-79AB3E8264CA}" type="slidenum">
              <a:t>32</a:t>
            </a:fld>
          </a:p>
        </p:txBody>
      </p:sp>
    </p:spTree>
  </p:cSld>
  <p:transition>
    <p:checker dir="horz"/>
  </p:transition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00"/>
                            </p:stCondLst>
                            <p:childTnLst>
                              <p:par>
                                <p:cTn id="15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825-F435-44FA-AB5B-732B8DF4DBE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Средства и способы позна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765000"/>
            <a:ext cx="2160720" cy="2232360"/>
          </a:xfrm>
          <a:prstGeom prst="flowChartDocumen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редства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ало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ч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1341360"/>
            <a:ext cx="3311640" cy="3456000"/>
          </a:xfrm>
          <a:prstGeom prst="flowChartDocumen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пособы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блюд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ледование предме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спериментир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ы логического позн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анализ, синтез, обобщение, сравнение, классификация и т.д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2276640"/>
            <a:ext cx="3095640" cy="3887640"/>
          </a:xfrm>
          <a:prstGeom prst="flowChart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редства и способы преобразования действ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це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сред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ализ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тро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ценка и коррек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3141720"/>
            <a:ext cx="2376720" cy="3382920"/>
          </a:xfrm>
          <a:prstGeom prst="flowChart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редства и способы эмоционально-ценностного общ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иро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зык эмоций мимики пантомим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925"/>
                            </p:stCondLst>
                            <p:childTnLst>
                              <p:par>
                                <p:cTn id="2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35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5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1739-009C-48A2-B5E8-F83836A6A2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0920" y="476280"/>
            <a:ext cx="8641080" cy="4339440"/>
            <a:chOff x="250920" y="476280"/>
            <a:chExt cx="8641080" cy="4339440"/>
          </a:xfrm>
        </p:grpSpPr>
        <p:sp>
          <p:nvSpPr>
            <p:cNvPr id="232" name="_s66564"/>
            <p:cNvSpPr/>
            <p:nvPr/>
          </p:nvSpPr>
          <p:spPr>
            <a:xfrm>
              <a:off x="3707640" y="476280"/>
              <a:ext cx="5184360" cy="431712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_s66565"/>
            <p:cNvSpPr/>
            <p:nvPr/>
          </p:nvSpPr>
          <p:spPr>
            <a:xfrm>
              <a:off x="4926960" y="1303920"/>
              <a:ext cx="3035520" cy="28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_s66566"/>
            <p:cNvSpPr/>
            <p:nvPr/>
          </p:nvSpPr>
          <p:spPr>
            <a:xfrm>
              <a:off x="250920" y="476280"/>
              <a:ext cx="5005440" cy="43394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_s66567"/>
            <p:cNvSpPr/>
            <p:nvPr/>
          </p:nvSpPr>
          <p:spPr>
            <a:xfrm>
              <a:off x="907560" y="1387080"/>
              <a:ext cx="341856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042920" y="3573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«могу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357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«хочу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084640"/>
            <a:ext cx="9144000" cy="1759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ahoma"/>
              </a:rPr>
              <a:t>Условие:</a:t>
            </a:r>
            <a:r>
              <a:rPr b="0" lang="ru-RU" sz="28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держание и процесс образова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моционально привлекатель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ля дете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ывают ярк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зитивные интеллектуальные эмоц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224172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формац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 окружаю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и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1341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редства и способ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озна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213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лание учитьс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знавать ми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15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2436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ff"/>
                </a:solidFill>
                <a:latin typeface="Comic Sans MS"/>
              </a:rPr>
              <a:t>Что такое информационная компетентность?</a:t>
            </a:r>
            <a:endParaRPr b="0" lang="en-US" sz="3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39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интегративное качество личности, являющееся результатом отражения процессов отбора, усвоения, переработки, трансформации и генерирования информации в особый тип предметно-специфических знаний, позволяющее вырабатывать, принимать, прогнозировать и реализовывать оптимальные решения в различных сферах деятельности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25C-5A97-40A1-81D2-26B9EA3564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5280" y="799920"/>
            <a:ext cx="856944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Трудности в овладении графическими умениями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связаны с недостаточным развитием мелкой моторики у детей 6–7 лет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не закончено окостенение костей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 запястья и фаланг пальцев, слабо развиты мелкие мышцы рук, несовершенна нервная регуляция движений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не сформированы механизмы пространственного восприятия и зрительной памяти, зрительно-моторной координации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Дополнительные трудности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есформированность представлений о плоскости, рельефе и объеме, симметрии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едостаточно развитые способности к переработке и трансформации одного вида информации в другой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ечеткая ориентацию на листе, слабое чувство вертикали и горизонтали, формата, масштабности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зеркальность восприятия и воспроизведения графических объектов (букв, цифр)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затруднения при мысленном изменение пространственного расположения объектов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352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неточное отражение в речи пространственной и графической терминологи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79280" y="152280"/>
            <a:ext cx="8064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Школьные трудности – в чем их причины?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ED53-0E24-4F67-BB01-DD05BB89E6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omic Sans MS"/>
              </a:rPr>
              <a:t>Язык графики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456840"/>
            <a:ext cx="8450280" cy="145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Средства языка графики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система символов, знаков, замещающих реальные объекты, понятия о них, отношения и связи между ними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Способ существования и проявления системы средств графики - </a:t>
            </a:r>
            <a:r>
              <a:rPr b="1" i="1" lang="ru-RU" sz="2400" spc="-1" strike="noStrike">
                <a:solidFill>
                  <a:srgbClr val="660066"/>
                </a:solidFill>
                <a:latin typeface="Comic Sans MS"/>
              </a:rPr>
              <a:t>графическое изображение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В графических изображениях </a:t>
            </a:r>
            <a:r>
              <a:rPr b="1" i="1" lang="ru-RU" sz="2400" spc="-1" strike="noStrike">
                <a:solidFill>
                  <a:srgbClr val="003366"/>
                </a:solidFill>
                <a:latin typeface="Comic Sans MS"/>
              </a:rPr>
              <a:t>кодируется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Comic Sans MS"/>
              </a:rPr>
              <a:t>информация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о различных объектах, их признаках и отношения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2133720"/>
            <a:ext cx="2592360" cy="1079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средство общения люд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2133720"/>
            <a:ext cx="2303640" cy="1079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структура зна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3213000"/>
            <a:ext cx="2160720" cy="1152720"/>
          </a:xfrm>
          <a:prstGeom prst="flowChartDecisi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Фун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221000"/>
            <a:ext cx="2663640" cy="792360"/>
          </a:xfrm>
          <a:prstGeom prst="flowChartPreparat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коммуникатив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4221000"/>
            <a:ext cx="2735280" cy="790560"/>
          </a:xfrm>
          <a:prstGeom prst="flowChartPreparat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omic Sans MS"/>
              </a:rPr>
              <a:t>познаватель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4221000"/>
            <a:ext cx="2519280" cy="792360"/>
          </a:xfrm>
          <a:prstGeom prst="leftRightArrow">
            <a:avLst>
              <a:gd name="adj1" fmla="val 50000"/>
              <a:gd name="adj2" fmla="val 63295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единообраз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2349360"/>
            <a:ext cx="2376360" cy="64800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ff"/>
                </a:solidFill>
                <a:latin typeface="Comic Sans MS"/>
              </a:rPr>
              <a:t>осуществл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43280" y="2924280"/>
            <a:ext cx="1152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24360" y="3860640"/>
            <a:ext cx="1872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08000" y="3860640"/>
            <a:ext cx="172728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64000" y="2781360"/>
            <a:ext cx="122400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31E8-A238-4677-AED9-8A226C2F0ABD}" type="slidenum">
              <a:t>8</a:t>
            </a:fld>
          </a:p>
        </p:txBody>
      </p:sp>
    </p:spTree>
  </p:cSld>
  <p:transition>
    <p:checker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ff"/>
                </a:solidFill>
                <a:latin typeface="Comic Sans MS"/>
              </a:rPr>
              <a:t>Графические изображения – </a:t>
            </a:r>
            <a:br>
              <a:rPr sz="3100"/>
            </a:br>
            <a:r>
              <a:rPr b="1" lang="ru-RU" sz="3100" spc="-1" strike="noStrike">
                <a:solidFill>
                  <a:srgbClr val="ff00ff"/>
                </a:solidFill>
                <a:latin typeface="Comic Sans MS"/>
              </a:rPr>
              <a:t>что это?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Восприятие и переработка графической информации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 – сложный процесс, требующий участия таких психических процессов, как восприятие, память, мышление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Разнообразные графические изображения,</a:t>
            </a:r>
            <a:r>
              <a:rPr b="1" i="1" lang="ru-RU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состоящие из линий, штрихов и точек</a:t>
            </a: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, построенные от руки, при помощи графических инструментов или типографским способом, окружают ребенка, включаются в различные виды детской деятельности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DDD-3B99-4A42-836E-5DCFA2F99FF4}" type="slidenum">
              <a:t>9</a:t>
            </a:fld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</cp:lastModifiedBy>
  <dcterms:modified xsi:type="dcterms:W3CDTF">2008-05-06T05:34:0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